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9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EF4-874E-402B-AD68-60D436D4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DEE-A4BC-4253-8BF7-0CE4C1C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333-628B-4115-8464-10AE575D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EAA-CDFE-4504-8EA7-A0392F40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4F9-C493-4E55-B56F-8D76E390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87C-76C2-4559-B642-CA2F91D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93B-AE6F-42C8-91A5-97ECA120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532-19D9-4EB4-BDF6-F155CAB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865-0B6B-484B-91C3-7E5AD95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9AE-EC29-4844-9003-C1474FB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15C-C218-4422-ADAE-101B0D6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245-65D7-4E4D-95CB-B0B564B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478-4982-48D8-BC1D-C91E518FB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hat affect does gender have on seeing the differences between two pictures? </a:t>
            </a:r>
            <a:endParaRPr b="0" lang="en-US" sz="40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y: Jessica Ri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53828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1337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min./sec.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-1:41                Tristin P.- 1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- 2:32             Tristen V.- 1: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- 1:21        Zane- 1: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- 1:51         Brayden- 2: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n- 1:29                 Erik- 2: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4648320"/>
            <a:ext cx="1593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really no difference between the boys and girls. Most of the boys were faster than the girls. Although some of the guys had slower times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jor Observation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of the guys had faster times. When comparing the times between each gender there was really no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1979640" cy="312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old them that the corners of the sun didn’t count, and some of them didn’t get what I was saying so they took along time trying to find the last differ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some distractions when taking the test so that costed some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boys and girls their brains aren’t different at all. The only difference really is the fact that boys’ brains develop slower than girls’ bra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467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ime Spent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this project I spent approximately 10 hours overall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5905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 for all of the people who were in my experiment!!! It helped me a lot for my experim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 Thanks to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, Emma, Shelby S., Shelbi F, Erin, Tristin P., Tristen V., Zane, Brayden, and Er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Boys' And Girls' Brains Are Different: Gender Differences In Language Appear Biological."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cience Daily: News &amp; Articles in Science, Health, Environment &amp; Technolog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&lt;http://www.sciencedaily.com/releases/2008/03/080303120346&gt;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All About Eyes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idsHeal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9 Jan. 2012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kidshealth.org/parent/general/body_basics/eyes.html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 NASSPE: Research &gt; Brain Differences ."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SSPE: Home &gt;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troduc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N.p., n.d. Web. 1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. 2012. &lt;http://www.singlesexschools.org/research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.htm&gt;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gender have an affect on how fast people can see the difference between two pictur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1827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looked at the can-you-find-the-difference pictures in the newspaper? Have you ever wondered if the fact that gender makes a difference on how fast you can find the differences? Well I am trying to find if there is a differ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14572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pictures that are the same but have differences that you have to fi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Girls &amp; 5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 or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per to keep track of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152244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9920" y="4952880"/>
            <a:ext cx="1519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r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oy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ly                    Tristin 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a L.                Tristen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y S.                  Zane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lbi F.                Bray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ci W.                  Erik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57600" y="5105520"/>
            <a:ext cx="1924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Background Info.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really no difference between boys and girls brains. The only difference would be how fast they produ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rls have different ways that they’re brains work. They have a very good ability to be able to understand language related things than guy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yes and our brain work together to be able to see things, and see other things like, size, shape, texture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67480" y="4952880"/>
            <a:ext cx="1447920" cy="11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ink that the girls will be able to find all of the differences faster. Girls usually tend to be able to find things faster when looking for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1141560" cy="245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I will take each person by themselves and I won’t show them the pictures until I start to time the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 will time them and finish once they have found all of the differ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I will look at the times between the boys and girls, and I will be able to see who found all of the differences and compare their ti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4780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ependent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t- Comparing boys and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ed- Pi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32704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38680" y="3581280"/>
            <a:ext cx="2203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32:37Z</dcterms:created>
  <dc:creator>USD376</dc:creator>
  <dc:description/>
  <dc:language>en-US</dc:language>
  <cp:lastModifiedBy>USD376</cp:lastModifiedBy>
  <dcterms:modified xsi:type="dcterms:W3CDTF">2012-03-09T15:34:21Z</dcterms:modified>
  <cp:revision>11</cp:revision>
  <dc:subject/>
  <dc:title>What affect does gender have on seeing the differences between two pictures? </dc:title>
</cp:coreProperties>
</file>